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39A2-E083-4B5A-8388-B7EBE8A019FF}" type="slidenum">
              <a:rPr b="0" lang="es-V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82C0-86F1-4B52-96D3-AC8828158483}" type="slidenum">
              <a:rPr b="0" lang="es-V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D99-3342-43E4-B5CC-8E7A0708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C98-27D9-410F-80CB-B4AC3D18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714-B425-4DCB-9F96-A90F684F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EFC-CF8C-4820-8E30-72B86C87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73A5-A4CD-4D7A-ABB6-C3EA489D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DC38-05EE-49D3-9120-91A4D2AD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AE2B-7B57-43F0-9C69-0D807480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406B-7A1D-41D5-9467-1C1E1AD6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CFA8-5682-4399-8340-35FD6B96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CCB1-F239-457E-AD93-B09F0FB7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0F88-F034-47BF-AEFF-239576EC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A5B8-4B88-421D-8B65-B094093A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66FC-12EF-4B30-82A5-AA33DF7A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5F11-1C86-40D9-9484-7C800E3B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42E5-3686-43FD-A5AF-87F267C2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A8AF-56EC-4AD9-AB96-0A0957C6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D1FC-E4CE-402E-B0E2-383D6F00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AC3-6ADE-4161-8C5B-BB16A693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7F2-51CB-496E-922C-6B983A40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7D0-DDAD-4907-ADA1-A0E124C7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942-85A7-47CB-AE13-7B6144B4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C49-0EA7-4D5F-86FF-EA3904A4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3FA7-0985-4E4D-9322-8BD1B051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066-69D1-46A2-BC97-53A9697E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15840" y="-15840"/>
            <a:ext cx="9185400" cy="6410160"/>
            <a:chOff x="-15840" y="-15840"/>
            <a:chExt cx="9185400" cy="6410160"/>
          </a:xfrm>
        </p:grpSpPr>
        <p:sp>
          <p:nvSpPr>
            <p:cNvPr id="1" name="Freeform 8"/>
            <p:cNvSpPr/>
            <p:nvPr/>
          </p:nvSpPr>
          <p:spPr>
            <a:xfrm>
              <a:off x="-15840" y="-15840"/>
              <a:ext cx="9170640" cy="63957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-1080" y="-1440"/>
              <a:ext cx="9170640" cy="639576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10"/>
          <p:cNvSpPr/>
          <p:nvPr/>
        </p:nvSpPr>
        <p:spPr>
          <a:xfrm>
            <a:off x="-15840" y="5281560"/>
            <a:ext cx="9169200" cy="1602000"/>
          </a:xfrm>
          <a:prstGeom prst="pie">
            <a:avLst/>
          </a:prstGeom>
          <a:gradFill rotWithShape="0">
            <a:gsLst>
              <a:gs pos="0">
                <a:srgbClr val="0066cc"/>
              </a:gs>
              <a:gs pos="100000">
                <a:srgbClr val="70b04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ED14-88ED-4A6E-BA5A-1D3F1BD00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-14400" y="4292640"/>
            <a:ext cx="9164880" cy="25923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-14400" y="0"/>
            <a:ext cx="9172800" cy="6124680"/>
            <a:chOff x="-14400" y="0"/>
            <a:chExt cx="9172800" cy="6124680"/>
          </a:xfrm>
        </p:grpSpPr>
        <p:sp>
          <p:nvSpPr>
            <p:cNvPr id="47" name="Freeform 9"/>
            <p:cNvSpPr/>
            <p:nvPr/>
          </p:nvSpPr>
          <p:spPr>
            <a:xfrm>
              <a:off x="0" y="0"/>
              <a:ext cx="9158400" cy="61246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-14400" y="0"/>
              <a:ext cx="9158400" cy="612468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4313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0748-6D64-475B-BFAD-F62B6BAFBA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DANIEL.ppt#13. Diapositiva 13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DANIEL.ppt#10. Diapositiva 1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395280" y="18900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0b040"/>
                </a:solidFill>
                <a:latin typeface="Verdana"/>
              </a:rPr>
              <a:t>REPÚBLICA BOLIVARIANA DE VENEZUE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0b040"/>
                </a:solidFill>
                <a:latin typeface="Verdana"/>
              </a:rPr>
              <a:t>UNIVERSIDAD PEDAGÓGICA EXPERIMENTAL LIBERT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0b040"/>
                </a:solidFill>
                <a:latin typeface="Verdana"/>
              </a:rPr>
              <a:t>INSTITUTO PEDAGÓGICO DE MATUR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0b040"/>
                </a:solidFill>
                <a:latin typeface="Verdana"/>
              </a:rPr>
              <a:t>CÁTEDRA: FORMULACIÓN Y EVALUACIÓN DE PROYEC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019400" y="1819440"/>
            <a:ext cx="1200240" cy="81756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1332000" y="3141720"/>
            <a:ext cx="662472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TUDIO ECONÓMI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24000" y="5084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0b040"/>
                </a:solidFill>
                <a:latin typeface="Verdana"/>
              </a:rPr>
              <a:t>Profesor: Daniel E. Reyes 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916360" y="61578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0b040"/>
                </a:solidFill>
                <a:latin typeface="Verdana"/>
              </a:rPr>
              <a:t>MATURÍN, MAYO DEL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85800" y="1905120"/>
          <a:ext cx="7848720" cy="3735360"/>
        </p:xfrm>
        <a:graphic>
          <a:graphicData uri="http://schemas.openxmlformats.org/drawingml/2006/table">
            <a:tbl>
              <a:tblPr/>
              <a:tblGrid>
                <a:gridCol w="2971800"/>
                <a:gridCol w="1523880"/>
                <a:gridCol w="1676520"/>
                <a:gridCol w="1676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P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teria Pri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2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9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no de obra direc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5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no de Obra Indirec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teriales Indirect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5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guro e Impuest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rec. Y Amortizac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5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ES ANU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 u="sng">
                          <a:solidFill>
                            <a:srgbClr val="70b040"/>
                          </a:solidFill>
                          <a:uFillTx/>
                          <a:latin typeface="Arial Narrow"/>
                          <a:hlinkClick r:id="rId1"/>
                        </a:rPr>
                        <a:t>11.8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355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7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WordArt 56"/>
          <p:cNvSpPr txBox="1"/>
          <p:nvPr/>
        </p:nvSpPr>
        <p:spPr>
          <a:xfrm>
            <a:off x="1295280" y="304920"/>
            <a:ext cx="6934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6b8ed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Lucida Calligraphy"/>
              </a:rPr>
              <a:t>ESTRUCTURA DE COSTO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cc66"/>
                  </a:gs>
                  <a:gs pos="100000">
                    <a:srgbClr val="6b8ed3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Lucida Calligraphy"/>
              <a:ea typeface="Lucida Calligraph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6"/>
          <p:cNvSpPr txBox="1"/>
          <p:nvPr/>
        </p:nvSpPr>
        <p:spPr>
          <a:xfrm>
            <a:off x="914400" y="304920"/>
            <a:ext cx="73915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b040"/>
                    </a:gs>
                    <a:gs pos="50000">
                      <a:srgbClr val="ffcc66"/>
                    </a:gs>
                    <a:gs pos="100000">
                      <a:srgbClr val="70b040"/>
                    </a:gs>
                  </a:gsLst>
                  <a:lin ang="5400000"/>
                </a:gradFill>
                <a:latin typeface="Impact"/>
              </a:rPr>
              <a:t> 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b040"/>
                  </a:gs>
                  <a:gs pos="50000">
                    <a:srgbClr val="ffcc66"/>
                  </a:gs>
                  <a:gs pos="100000">
                    <a:srgbClr val="70b04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584360" y="1981080"/>
            <a:ext cx="672156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GASTOS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GASTOS DE PUBLICIDAD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2.4000.000,00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GASTOS DE ADMINIST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GERENTE GENERAL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6.000.000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GERENTE ADMINISTRATIVO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3.360.000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GERENTTE DE SERVICIOS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3.000.000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SUELDOS Y SALARIOS (10 OBREROS)    16.800.000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GASTOS GENERALES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5.000.000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GASTOS DE MANTENIMIENTO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2.000.000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TOTAL GASTOS OPERATIVOS ANUALES      38.560.000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838080" y="1905120"/>
          <a:ext cx="7534440" cy="4314600"/>
        </p:xfrm>
        <a:graphic>
          <a:graphicData uri="http://schemas.openxmlformats.org/drawingml/2006/table">
            <a:tbl>
              <a:tblPr/>
              <a:tblGrid>
                <a:gridCol w="2667240"/>
                <a:gridCol w="1752480"/>
                <a:gridCol w="1600200"/>
                <a:gridCol w="1514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CALES COMER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5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FICIN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3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IFICI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5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RBANIZAC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74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ENTROS COMER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.3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NC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7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.2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NUA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.14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.7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3.8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sp>
        <p:nvSpPr>
          <p:cNvPr id="177" name="WordArt 61"/>
          <p:cNvSpPr txBox="1"/>
          <p:nvPr/>
        </p:nvSpPr>
        <p:spPr>
          <a:xfrm>
            <a:off x="1600200" y="533520"/>
            <a:ext cx="61722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NOSTICO DE VENTA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1143000" y="1600200"/>
            <a:ext cx="7086600" cy="4558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+INGRESOS POR VENTAS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61.140.0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-COSTOS DE PRODUCCIÓN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70b040"/>
                </a:solidFill>
                <a:uFillTx/>
                <a:latin typeface="Arial Narrow"/>
                <a:hlinkClick r:id="rId1"/>
              </a:rPr>
              <a:t>11.800.0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=UTILIDAD MARGINAL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49.340.0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-COSTOS GENERALES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38.560.0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=UTILIDAD BRUTA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10.780.0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-IMPUESTO SOBRE LA RENTA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     800.0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=UTILIDAD NETA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  9.980.0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+DEPRECIACIÓN Y AMORTIZ.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    200.0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=FLUJO NETO DE EFECTIVO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10.180.0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1295280" y="304920"/>
            <a:ext cx="6705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FLUJO NETO DEL EFECTIVO</a:t>
            </a:r>
            <a:endParaRPr b="0" lang="en-US" sz="1800" spc="1" strike="noStrike">
              <a:ln w="0">
                <a:noFill/>
              </a:ln>
              <a:solidFill>
                <a:srgbClr val="cc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4"/>
          <p:cNvSpPr/>
          <p:nvPr/>
        </p:nvSpPr>
        <p:spPr>
          <a:xfrm>
            <a:off x="685800" y="152280"/>
            <a:ext cx="8001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ffcc66"/>
                </a:solidFill>
                <a:latin typeface="Lucida Handwriting"/>
              </a:rPr>
              <a:t>ESTUDIO </a:t>
            </a:r>
            <a:r>
              <a:rPr b="1" i="1" lang="es-MX" sz="5000" spc="-1" strike="noStrike">
                <a:solidFill>
                  <a:srgbClr val="ffcc66"/>
                </a:solidFill>
                <a:latin typeface="Lucida Handwriting"/>
              </a:rPr>
              <a:t>ECONÓMICO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23"/>
          <p:cNvSpPr/>
          <p:nvPr/>
        </p:nvSpPr>
        <p:spPr>
          <a:xfrm>
            <a:off x="2971800" y="2743200"/>
            <a:ext cx="3313080" cy="208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66cc"/>
              </a:gs>
              <a:gs pos="100000">
                <a:srgbClr val="ffffff"/>
              </a:gs>
            </a:gsLst>
            <a:lin ang="189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25"/>
          <p:cNvSpPr/>
          <p:nvPr/>
        </p:nvSpPr>
        <p:spPr>
          <a:xfrm>
            <a:off x="3344760" y="2814480"/>
            <a:ext cx="2667240" cy="1905120"/>
          </a:xfrm>
          <a:custGeom>
            <a:avLst/>
            <a:gdLst>
              <a:gd name="textAreaLeft" fmla="*/ 946800 w 2667240"/>
              <a:gd name="textAreaRight" fmla="*/ 1720440 w 2667240"/>
              <a:gd name="textAreaTop" fmla="*/ 676440 h 1905120"/>
              <a:gd name="textAreaBottom" fmla="*/ 12286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69" y="7669"/>
                </a:lnTo>
                <a:lnTo>
                  <a:pt x="10800" y="0"/>
                </a:lnTo>
                <a:lnTo>
                  <a:pt x="13931" y="7669"/>
                </a:lnTo>
                <a:lnTo>
                  <a:pt x="21600" y="10800"/>
                </a:lnTo>
                <a:lnTo>
                  <a:pt x="13931" y="13931"/>
                </a:lnTo>
                <a:lnTo>
                  <a:pt x="10800" y="21600"/>
                </a:lnTo>
                <a:lnTo>
                  <a:pt x="7669" y="13931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7"/>
          <p:cNvSpPr/>
          <p:nvPr/>
        </p:nvSpPr>
        <p:spPr>
          <a:xfrm>
            <a:off x="2209680" y="165888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MONTO DE RECURS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ECONÓM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6400800" y="3473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COSTO TOTAL OPERACIÓN PLA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2438280" y="518004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PROYECCIÓN DE INGRESOS PARA   DETERMINAR EL MARGEN DE UT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380880" y="3517920"/>
            <a:ext cx="2438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FUENTES DE FINANCI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4572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cc66"/>
                </a:solidFill>
                <a:latin typeface="Lucida Handwriting"/>
              </a:rPr>
              <a:t>ESTUDIO ECONÓMICO</a:t>
            </a:r>
            <a:br>
              <a:rPr sz="4400"/>
            </a:br>
            <a:r>
              <a:rPr b="1" i="1" lang="es-MX" sz="4400" spc="-1" strike="noStrike">
                <a:solidFill>
                  <a:srgbClr val="ffcc66"/>
                </a:solidFill>
                <a:latin typeface="Lucida Handwriting"/>
              </a:rPr>
              <a:t>VARI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62120" y="32767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70b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ESTRUCTURA DE COSTOS Y GA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762120" y="43434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70b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ESTRUCTURA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62120" y="53341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70b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4191120" y="3352680"/>
            <a:ext cx="1447560" cy="486000"/>
          </a:xfrm>
          <a:prstGeom prst="rightArrow">
            <a:avLst>
              <a:gd name="adj1" fmla="val 50000"/>
              <a:gd name="adj2" fmla="val 74463"/>
            </a:avLst>
          </a:prstGeom>
          <a:solidFill>
            <a:srgbClr val="70b0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4191120" y="4419720"/>
            <a:ext cx="1452600" cy="485640"/>
          </a:xfrm>
          <a:prstGeom prst="rightArrow">
            <a:avLst>
              <a:gd name="adj1" fmla="val 50000"/>
              <a:gd name="adj2" fmla="val 74778"/>
            </a:avLst>
          </a:prstGeom>
          <a:solidFill>
            <a:srgbClr val="70b0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4191120" y="5486400"/>
            <a:ext cx="1523880" cy="485640"/>
          </a:xfrm>
          <a:prstGeom prst="rightArrow">
            <a:avLst>
              <a:gd name="adj1" fmla="val 50000"/>
              <a:gd name="adj2" fmla="val 78447"/>
            </a:avLst>
          </a:prstGeom>
          <a:solidFill>
            <a:srgbClr val="70b0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762120" y="2154240"/>
            <a:ext cx="7913520" cy="957240"/>
            <a:chOff x="762120" y="2154240"/>
            <a:chExt cx="7913520" cy="957240"/>
          </a:xfrm>
        </p:grpSpPr>
        <p:sp>
          <p:nvSpPr>
            <p:cNvPr id="117" name="Text Box 5"/>
            <p:cNvSpPr/>
            <p:nvPr/>
          </p:nvSpPr>
          <p:spPr>
            <a:xfrm>
              <a:off x="762120" y="2286000"/>
              <a:ext cx="3047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buClr>
                  <a:srgbClr val="70b04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</a:rPr>
                <a:t>COSTO DE LA INVERSIÓ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9"/>
            <p:cNvSpPr/>
            <p:nvPr/>
          </p:nvSpPr>
          <p:spPr>
            <a:xfrm>
              <a:off x="4191120" y="2362320"/>
              <a:ext cx="1447560" cy="485640"/>
            </a:xfrm>
            <a:prstGeom prst="rightArrow">
              <a:avLst>
                <a:gd name="adj1" fmla="val 57519"/>
                <a:gd name="adj2" fmla="val 63009"/>
              </a:avLst>
            </a:prstGeom>
            <a:solidFill>
              <a:srgbClr val="70b04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3"/>
            <p:cNvSpPr/>
            <p:nvPr/>
          </p:nvSpPr>
          <p:spPr>
            <a:xfrm>
              <a:off x="5932440" y="2154240"/>
              <a:ext cx="2743200" cy="914400"/>
            </a:xfrm>
            <a:prstGeom prst="ellipse">
              <a:avLst/>
            </a:prstGeom>
            <a:solidFill>
              <a:srgbClr val="6b8ed3">
                <a:alpha val="7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Times New Roman"/>
                </a:rPr>
                <a:t>INVERSIÓN INICIAL 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Times New Roman"/>
                </a:rPr>
                <a:t>CAPITAL DE TRABAJ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Oval 14"/>
          <p:cNvSpPr/>
          <p:nvPr/>
        </p:nvSpPr>
        <p:spPr>
          <a:xfrm>
            <a:off x="5929200" y="3213000"/>
            <a:ext cx="2819520" cy="990720"/>
          </a:xfrm>
          <a:prstGeom prst="ellipse">
            <a:avLst/>
          </a:prstGeom>
          <a:solidFill>
            <a:srgbClr val="6b8ed3">
              <a:alpha val="7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COSTOS DE PRODUCCIÓN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GASTOS OPER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15"/>
          <p:cNvSpPr/>
          <p:nvPr/>
        </p:nvSpPr>
        <p:spPr>
          <a:xfrm>
            <a:off x="5932440" y="4243320"/>
            <a:ext cx="2743200" cy="914400"/>
          </a:xfrm>
          <a:prstGeom prst="ellipse">
            <a:avLst/>
          </a:prstGeom>
          <a:solidFill>
            <a:srgbClr val="6b8ed3">
              <a:alpha val="7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FLUJO NETO DE EFECTI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6"/>
          <p:cNvSpPr/>
          <p:nvPr/>
        </p:nvSpPr>
        <p:spPr>
          <a:xfrm>
            <a:off x="5943600" y="5251320"/>
            <a:ext cx="2743200" cy="914400"/>
          </a:xfrm>
          <a:prstGeom prst="ellipse">
            <a:avLst/>
          </a:prstGeom>
          <a:solidFill>
            <a:srgbClr val="6b8ed3">
              <a:alpha val="7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RECURSOS ECONOM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(propias y/o ajena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838080" y="1981080"/>
            <a:ext cx="2743200" cy="838440"/>
          </a:xfrm>
          <a:prstGeom prst="flowChartDecision">
            <a:avLst/>
          </a:prstGeom>
          <a:solidFill>
            <a:srgbClr val="70b040">
              <a:alpha val="7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INVERSIÓN INI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5"/>
          <p:cNvSpPr txBox="1"/>
          <p:nvPr/>
        </p:nvSpPr>
        <p:spPr>
          <a:xfrm>
            <a:off x="1295280" y="304920"/>
            <a:ext cx="6934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6b8ed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Lucida Calligraphy"/>
              </a:rPr>
              <a:t>COSTO DE LA INVERSIÓN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cc66"/>
                  </a:gs>
                  <a:gs pos="100000">
                    <a:srgbClr val="6b8ed3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609480" y="3276720"/>
            <a:ext cx="34308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ADQUISICIÓN DE ACTIVOS FIJOS TANGIBLES E INTANGIBLES Y  LOS ACTIVOS DIFERI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5486400" y="1981080"/>
            <a:ext cx="2743200" cy="838440"/>
          </a:xfrm>
          <a:prstGeom prst="flowChartDecision">
            <a:avLst/>
          </a:prstGeom>
          <a:solidFill>
            <a:srgbClr val="70b040">
              <a:alpha val="7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CAPITAL DE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5484960" y="3276720"/>
            <a:ext cx="34304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APITAL ADICION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FINANCIA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PRIMERA PRODUCCIO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M.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M.O.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9"/>
          <p:cNvGraphicFramePr/>
          <p:nvPr/>
        </p:nvGraphicFramePr>
        <p:xfrm>
          <a:off x="838080" y="1905120"/>
          <a:ext cx="2581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2581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WordArt 5"/>
          <p:cNvSpPr txBox="1"/>
          <p:nvPr/>
        </p:nvSpPr>
        <p:spPr>
          <a:xfrm>
            <a:off x="685800" y="457200"/>
            <a:ext cx="7624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20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b040"/>
                    </a:gs>
                    <a:gs pos="50000">
                      <a:srgbClr val="996633"/>
                    </a:gs>
                    <a:gs pos="100000">
                      <a:srgbClr val="70b040"/>
                    </a:gs>
                  </a:gsLst>
                  <a:lin ang="2700000"/>
                </a:gradFill>
                <a:latin typeface="Times New Roman"/>
              </a:rPr>
              <a:t>          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b040"/>
                  </a:gs>
                  <a:gs pos="50000">
                    <a:srgbClr val="996633"/>
                  </a:gs>
                  <a:gs pos="100000">
                    <a:srgbClr val="70b040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343400" y="1143000"/>
            <a:ext cx="45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STOS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GASTOS DE ADMINIST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GASTOS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Object 7"/>
          <p:cNvGraphicFramePr/>
          <p:nvPr/>
        </p:nvGraphicFramePr>
        <p:xfrm>
          <a:off x="4952880" y="5181480"/>
          <a:ext cx="3886200" cy="166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5181480"/>
                    <a:ext cx="3886200" cy="16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914400" y="1676520"/>
            <a:ext cx="7696080" cy="2743200"/>
          </a:xfrm>
          <a:prstGeom prst="cloudCallout">
            <a:avLst>
              <a:gd name="adj1" fmla="val -38861"/>
              <a:gd name="adj2" fmla="val 59435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191120" y="245412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ECIO DE VENTA     x                              N° UNIDADES  VEND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MCBD06817_0000[1]"/>
          <p:cNvPicPr/>
          <p:nvPr/>
        </p:nvPicPr>
        <p:blipFill>
          <a:blip r:embed="rId1"/>
          <a:stretch/>
        </p:blipFill>
        <p:spPr>
          <a:xfrm>
            <a:off x="0" y="4114800"/>
            <a:ext cx="7920000" cy="27432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5"/>
          <p:cNvSpPr txBox="1"/>
          <p:nvPr/>
        </p:nvSpPr>
        <p:spPr>
          <a:xfrm>
            <a:off x="1000080" y="-228600"/>
            <a:ext cx="71532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Thickhead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Thickhead"/>
              <a:ea typeface="Thickhe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Thickhead"/>
              </a:rPr>
              <a:t>ESTRUCTURA DE RESULTAD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Thickhead"/>
              <a:ea typeface="Thickhead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981080" y="26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GRESOS   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6"/>
          <p:cNvSpPr txBox="1"/>
          <p:nvPr/>
        </p:nvSpPr>
        <p:spPr>
          <a:xfrm>
            <a:off x="1000080" y="-228600"/>
            <a:ext cx="71532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Thickhead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Thickhead"/>
              <a:ea typeface="Thickhe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Thickhead"/>
              </a:rPr>
              <a:t>ESTRUCTURA DE RESULTAD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Thickhead"/>
              <a:ea typeface="Thickhea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8080" y="1676520"/>
          <a:ext cx="7518600" cy="3678120"/>
        </p:xfrm>
        <a:graphic>
          <a:graphicData uri="http://schemas.openxmlformats.org/drawingml/2006/table">
            <a:tbl>
              <a:tblPr/>
              <a:tblGrid>
                <a:gridCol w="438120"/>
                <a:gridCol w="1390680"/>
                <a:gridCol w="2633760"/>
                <a:gridCol w="1895400"/>
                <a:gridCol w="1160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gres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sto de produc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tilidad margi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stos de Admón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stos de Ven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stos financier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tilidad bru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SL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tilidades no distribuid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tilidad ne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reciación y amortiz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O       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FEC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Object 412"/>
          <p:cNvGraphicFramePr/>
          <p:nvPr/>
        </p:nvGraphicFramePr>
        <p:xfrm>
          <a:off x="685800" y="5565600"/>
          <a:ext cx="7696080" cy="12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4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565600"/>
                    <a:ext cx="769608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413"/>
          <p:cNvGraphicFramePr/>
          <p:nvPr/>
        </p:nvGraphicFramePr>
        <p:xfrm>
          <a:off x="3962520" y="6095880"/>
          <a:ext cx="132372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4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6095880"/>
                    <a:ext cx="13237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414"/>
          <p:cNvSpPr/>
          <p:nvPr/>
        </p:nvSpPr>
        <p:spPr>
          <a:xfrm>
            <a:off x="4114800" y="1066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.N.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380880" y="2286000"/>
            <a:ext cx="2743200" cy="435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RIF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ENDIM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FIES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CT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ELICU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V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809880" y="4113360"/>
            <a:ext cx="2362320" cy="24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ALCALD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GOBERNAC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ONDE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ONCRED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BANCO COMU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400800" y="4098960"/>
            <a:ext cx="2057400" cy="2491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MPRESAS DE LA LOC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BAN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UNDACION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BIGO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18"/>
          <p:cNvGrpSpPr/>
          <p:nvPr/>
        </p:nvGrpSpPr>
        <p:grpSpPr>
          <a:xfrm>
            <a:off x="4800600" y="3352680"/>
            <a:ext cx="2514600" cy="609480"/>
            <a:chOff x="4800600" y="3352680"/>
            <a:chExt cx="2514600" cy="609480"/>
          </a:xfrm>
        </p:grpSpPr>
        <p:sp>
          <p:nvSpPr>
            <p:cNvPr id="150" name="Line 8"/>
            <p:cNvSpPr/>
            <p:nvPr/>
          </p:nvSpPr>
          <p:spPr>
            <a:xfrm flipH="1">
              <a:off x="4800600" y="3352680"/>
              <a:ext cx="1295280" cy="533160"/>
            </a:xfrm>
            <a:prstGeom prst="line">
              <a:avLst/>
            </a:prstGeom>
            <a:ln w="28440">
              <a:solidFill>
                <a:srgbClr val="70b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6019920" y="3352680"/>
              <a:ext cx="1295280" cy="609480"/>
            </a:xfrm>
            <a:prstGeom prst="line">
              <a:avLst/>
            </a:prstGeom>
            <a:ln w="28440">
              <a:solidFill>
                <a:srgbClr val="70b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Group 21"/>
          <p:cNvGrpSpPr/>
          <p:nvPr/>
        </p:nvGrpSpPr>
        <p:grpSpPr>
          <a:xfrm>
            <a:off x="3809880" y="2328840"/>
            <a:ext cx="4496040" cy="1015920"/>
            <a:chOff x="3809880" y="2328840"/>
            <a:chExt cx="4496040" cy="1015920"/>
          </a:xfrm>
        </p:grpSpPr>
        <p:sp>
          <p:nvSpPr>
            <p:cNvPr id="153" name="Text Box 5"/>
            <p:cNvSpPr/>
            <p:nvPr/>
          </p:nvSpPr>
          <p:spPr>
            <a:xfrm>
              <a:off x="3809880" y="2328840"/>
              <a:ext cx="4496040" cy="10159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XTERN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</a:t>
              </a:r>
              <a:r>
                <a:rPr b="1" lang="es-ES_tradn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UBLICO     Y/O     PRIVAD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3809880" y="2819520"/>
              <a:ext cx="4496040" cy="0"/>
            </a:xfrm>
            <a:prstGeom prst="line">
              <a:avLst/>
            </a:prstGeom>
            <a:ln w="9360">
              <a:solidFill>
                <a:srgbClr val="70b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Text Box 14"/>
          <p:cNvSpPr/>
          <p:nvPr/>
        </p:nvSpPr>
        <p:spPr>
          <a:xfrm>
            <a:off x="914400" y="487440"/>
            <a:ext cx="7315200" cy="5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c66"/>
                </a:solidFill>
                <a:latin typeface="Lucida Handwriting"/>
              </a:rPr>
              <a:t>FUENTES DE FINANCI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Group 20"/>
          <p:cNvGrpSpPr/>
          <p:nvPr/>
        </p:nvGrpSpPr>
        <p:grpSpPr>
          <a:xfrm>
            <a:off x="457200" y="1066680"/>
            <a:ext cx="8229600" cy="990720"/>
            <a:chOff x="457200" y="1066680"/>
            <a:chExt cx="8229600" cy="990720"/>
          </a:xfrm>
        </p:grpSpPr>
        <p:sp>
          <p:nvSpPr>
            <p:cNvPr id="157" name="Line 11"/>
            <p:cNvSpPr/>
            <p:nvPr/>
          </p:nvSpPr>
          <p:spPr>
            <a:xfrm>
              <a:off x="914400" y="1371600"/>
              <a:ext cx="7391520" cy="0"/>
            </a:xfrm>
            <a:prstGeom prst="line">
              <a:avLst/>
            </a:prstGeom>
            <a:ln w="57240">
              <a:solidFill>
                <a:srgbClr val="70b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Group 19"/>
            <p:cNvGrpSpPr/>
            <p:nvPr/>
          </p:nvGrpSpPr>
          <p:grpSpPr>
            <a:xfrm>
              <a:off x="2057040" y="1371600"/>
              <a:ext cx="4877280" cy="685800"/>
              <a:chOff x="2057040" y="1371600"/>
              <a:chExt cx="4877280" cy="685800"/>
            </a:xfrm>
          </p:grpSpPr>
          <p:sp>
            <p:nvSpPr>
              <p:cNvPr id="159" name="Line 12"/>
              <p:cNvSpPr/>
              <p:nvPr/>
            </p:nvSpPr>
            <p:spPr>
              <a:xfrm flipH="1">
                <a:off x="2057040" y="1371600"/>
                <a:ext cx="2590920" cy="609840"/>
              </a:xfrm>
              <a:prstGeom prst="line">
                <a:avLst/>
              </a:prstGeom>
              <a:ln w="57240">
                <a:solidFill>
                  <a:srgbClr val="70b04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13"/>
              <p:cNvSpPr/>
              <p:nvPr/>
            </p:nvSpPr>
            <p:spPr>
              <a:xfrm>
                <a:off x="4495680" y="1371600"/>
                <a:ext cx="2438640" cy="685800"/>
              </a:xfrm>
              <a:prstGeom prst="line">
                <a:avLst/>
              </a:prstGeom>
              <a:ln w="57240">
                <a:solidFill>
                  <a:srgbClr val="70b04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Line 16"/>
            <p:cNvSpPr/>
            <p:nvPr/>
          </p:nvSpPr>
          <p:spPr>
            <a:xfrm>
              <a:off x="457200" y="1066680"/>
              <a:ext cx="457200" cy="304920"/>
            </a:xfrm>
            <a:prstGeom prst="line">
              <a:avLst/>
            </a:prstGeom>
            <a:ln w="57240">
              <a:solidFill>
                <a:srgbClr val="70b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17"/>
            <p:cNvSpPr/>
            <p:nvPr/>
          </p:nvSpPr>
          <p:spPr>
            <a:xfrm flipH="1">
              <a:off x="8305920" y="1066680"/>
              <a:ext cx="380880" cy="304920"/>
            </a:xfrm>
            <a:prstGeom prst="line">
              <a:avLst/>
            </a:prstGeom>
            <a:ln w="57240">
              <a:solidFill>
                <a:srgbClr val="70b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>
            <a:off x="1371600" y="380880"/>
            <a:ext cx="643896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MPRESA DE SERVICIOS DE LIMPIEZA Y MANTENIMIENT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INVERSIÓN INICIAL DEL PROYECTO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838080" y="1676520"/>
            <a:ext cx="7467480" cy="4800600"/>
            <a:chOff x="838080" y="1676520"/>
            <a:chExt cx="7467480" cy="4800600"/>
          </a:xfrm>
        </p:grpSpPr>
        <p:sp>
          <p:nvSpPr>
            <p:cNvPr id="165" name="Text Box 5"/>
            <p:cNvSpPr/>
            <p:nvPr/>
          </p:nvSpPr>
          <p:spPr>
            <a:xfrm>
              <a:off x="990360" y="1752480"/>
              <a:ext cx="7239240" cy="44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              </a:t>
              </a: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ACTIV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CIRCULANTE                                                                                                 8.4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  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EFECTIVO EN BANCOS                                                                             8.4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FIJO TANGIBLES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69.1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    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TERRENO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14.0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  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MAQUINARIAS Y EQUIPO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17.5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  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MUEBLES Y ENSERES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2.6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VEHÍCULOS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35.0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FIJO INTANGIBLES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     5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PATENTE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   5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DIFERIDOS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  2.8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    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GASTOS DE ORGANIZACIÓN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2.8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OTROS ACTIVOS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  5.250-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CONSTRUCCIONES EN PROCESO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5.25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                                                        </a:t>
              </a: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TOTAL INVERSIÓN                  </a:t>
              </a: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86.050.000,00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6"/>
            <p:cNvSpPr/>
            <p:nvPr/>
          </p:nvSpPr>
          <p:spPr>
            <a:xfrm>
              <a:off x="838080" y="1676520"/>
              <a:ext cx="7467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7"/>
            <p:cNvSpPr/>
            <p:nvPr/>
          </p:nvSpPr>
          <p:spPr>
            <a:xfrm>
              <a:off x="838080" y="1676520"/>
              <a:ext cx="0" cy="472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8"/>
            <p:cNvSpPr/>
            <p:nvPr/>
          </p:nvSpPr>
          <p:spPr>
            <a:xfrm>
              <a:off x="838080" y="6400800"/>
              <a:ext cx="746748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"/>
            <p:cNvSpPr/>
            <p:nvPr/>
          </p:nvSpPr>
          <p:spPr>
            <a:xfrm>
              <a:off x="8305560" y="1676520"/>
              <a:ext cx="0" cy="480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70" name="Object 11"/>
          <p:cNvGraphicFramePr/>
          <p:nvPr/>
        </p:nvGraphicFramePr>
        <p:xfrm>
          <a:off x="914400" y="5398920"/>
          <a:ext cx="228600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98920"/>
                    <a:ext cx="228600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21:19:28Z</dcterms:created>
  <dc:creator>Harvest Vinccler, C.A.</dc:creator>
  <dc:description/>
  <cp:keywords/>
  <dc:language>en-US</dc:language>
  <cp:lastModifiedBy>comercio</cp:lastModifiedBy>
  <dcterms:modified xsi:type="dcterms:W3CDTF">2007-06-21T18:16:50Z</dcterms:modified>
  <cp:revision>19</cp:revision>
  <dc:subject/>
  <dc:title>ANALISIS DEL PROCESO DE PROCURA DE MATERIALES Y/O EQUIPOS EN EL DEPARTAMENTO DE COMPRAS  DE LA GERENCIA DE MATERIALES DE LA EMPRESA HARVEST VINCCLER, S.C.A.,  UBICADA EN MATURIN-EDO-MONAGAS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41033</vt:lpwstr>
  </property>
</Properties>
</file>